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521"/>
        <c:axId val="65252395"/>
      </c:barChart>
      <c:catAx>
        <c:axId val="7601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52395"/>
        <c:crosses val="autoZero"/>
        <c:auto val="1"/>
        <c:lblAlgn val="ctr"/>
        <c:lblOffset val="100"/>
        <c:noMultiLvlLbl val="0"/>
      </c:catAx>
      <c:valAx>
        <c:axId val="65252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ACC-8E99-4F69-BDC8-8B892F9A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355-D1A9-43AE-9C45-6741E61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DE2-436C-4492-8EC1-94E99AAD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712-F3EF-4507-9204-6ADE9D2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F45-3C7C-4D93-B327-E8C9CB8E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A6A-6FF4-4D3C-86F9-7FFADBB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730-26D7-437A-8259-DB640916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6D2-9B06-4DFF-AD5C-C8F08AF1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0C0-E03C-4DC6-A9EF-AEDF518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60A-D4F0-4829-8F94-D4F38DE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F3E-F953-4300-850D-8507B4D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13B-BAC0-4620-9415-5372CE0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2ADC7-C4FC-4710-9DE8-3B0995ABD7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