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65462"/>
        <c:axId val="44797737"/>
      </c:barChart>
      <c:catAx>
        <c:axId val="61665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97737"/>
        <c:crosses val="autoZero"/>
        <c:auto val="1"/>
        <c:lblAlgn val="ctr"/>
        <c:lblOffset val="100"/>
        <c:noMultiLvlLbl val="0"/>
      </c:catAx>
      <c:valAx>
        <c:axId val="44797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65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1AE-0989-4A88-BF47-1487CB0E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51C-E1CD-42F5-B2C6-29EB03AA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BA5-C4B0-4480-92F3-DFD0DBEC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CE7-9C4C-497F-AA1A-AD5643ED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AED-DF4E-47C7-874A-0A217402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AF4-AC90-4D51-9E66-F3DE59F3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50A-9F03-4B81-81B5-2BAA0079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346-CF0D-4D99-BF7E-A2A95CD5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683-D059-4C7D-81B9-B23F7A4D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A1A-4899-4866-98BB-E73D1599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1D6-5AD5-4276-8519-567100CC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119-C961-4DA6-BF66-4301C799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40EA5-F168-402A-8562-2851A2417C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