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71429"/>
        <c:axId val="89779297"/>
      </c:barChart>
      <c:catAx>
        <c:axId val="63371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79297"/>
        <c:crosses val="autoZero"/>
        <c:auto val="1"/>
        <c:lblAlgn val="ctr"/>
        <c:lblOffset val="100"/>
        <c:noMultiLvlLbl val="0"/>
      </c:catAx>
      <c:valAx>
        <c:axId val="89779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71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706-30FE-4B93-8238-27678A99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BC8-E0DE-45CA-A9F3-44C04B78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FAE-73C5-4150-8A37-11F6E86F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9E3-E291-4676-85F8-4D50CD95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F14-C8F7-48EE-9CB7-17E15190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72E-0382-49DD-A8F0-2A7C4FF7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E63-EFE1-4500-B1CE-23201C72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D8C-1B2F-4D40-989E-2D79591F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A3D-0F0E-4B80-8271-744424E0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F24-42DF-4A68-BBA6-EE23983C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F42-97A4-4C21-9EAB-AAAEF180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0A0-B4E0-44A2-8AA2-6759CB73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A21DF-7C31-4828-BE4B-2CF37D0C01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