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06108"/>
        <c:axId val="82483012"/>
      </c:barChart>
      <c:catAx>
        <c:axId val="49306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83012"/>
        <c:crosses val="autoZero"/>
        <c:auto val="1"/>
        <c:lblAlgn val="ctr"/>
        <c:lblOffset val="100"/>
        <c:noMultiLvlLbl val="0"/>
      </c:catAx>
      <c:valAx>
        <c:axId val="824830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06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EECA-4190-4B38-8883-8BF40E3F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4E6-6712-4E38-91A2-22468A47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049-4211-451D-9AF9-B27D391C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5E22-7A28-42AC-8237-767ABEFB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188-EA68-4FD6-BC4B-C1A6828B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0FD-129B-4B8E-A571-B70F1A48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97A-4E09-4F18-AEDD-9D7CAE60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1CF3-F70C-4C45-9E0D-B78FCBE1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628-D1AB-453C-A40B-B89E2518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554-2F81-40CF-BA3E-5E2C45C4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8356-A586-4FA1-92EE-E3A73853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AF7-CABD-4067-A25A-C245AD16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1445A-2A08-45B8-A523-F421121CB9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