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64278"/>
        <c:axId val="73589996"/>
      </c:barChart>
      <c:catAx>
        <c:axId val="12764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89996"/>
        <c:crosses val="autoZero"/>
        <c:auto val="1"/>
        <c:lblAlgn val="ctr"/>
        <c:lblOffset val="100"/>
        <c:noMultiLvlLbl val="0"/>
      </c:catAx>
      <c:valAx>
        <c:axId val="73589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4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DCA-7187-45B1-BF2B-234FDD0F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426-8FF7-427A-BE93-742DD80B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6A1-740E-4431-95C6-2F0F20DC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231-2A29-4AEA-94D3-F8B6A99A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F95-313E-4F35-81F4-08552112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EB8-DFA0-4BDB-A49D-3D1680C9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C44-092C-4BD9-88B4-98F414F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03E-4072-41EC-85B7-EE94473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AAC-00BC-4F81-BFB8-CFF00CA3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1BF-B665-4FB0-8180-2D39BE2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528-5EDA-493F-9B41-A8CBF857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8DC-BBFA-402E-85FF-9775122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1DED-1CF5-438D-B4F1-ED527FDFE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