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05266"/>
        <c:axId val="53629893"/>
      </c:barChart>
      <c:catAx>
        <c:axId val="94305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9893"/>
        <c:crosses val="autoZero"/>
        <c:auto val="1"/>
        <c:lblAlgn val="ctr"/>
        <c:lblOffset val="100"/>
        <c:noMultiLvlLbl val="0"/>
      </c:catAx>
      <c:valAx>
        <c:axId val="53629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05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68B-8344-4660-BA01-6997A8C8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89E-5542-4A07-9A00-6E0CAE5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0C5-334E-468E-93FC-68608DEF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747-CE96-4421-9038-7EA2C3E5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453-63E6-4774-B338-BC1720A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CB8-EE69-41CD-A5B2-CF0D5FA0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4F3-673C-47C4-B037-DB12B95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430-5D59-48EC-981C-0669848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A9E-7FFF-4370-9A78-D814FAB6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C7D-E379-4715-A3FA-3813419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8E7-3073-4E6A-8802-A2A7B33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73E-3380-4AB1-BE7A-1A3D1D6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38735-F874-4901-B5D4-837977EAF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