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37151"/>
        <c:axId val="77664607"/>
      </c:barChart>
      <c:catAx>
        <c:axId val="678371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64607"/>
        <c:crosses val="autoZero"/>
        <c:auto val="1"/>
        <c:lblAlgn val="ctr"/>
        <c:lblOffset val="100"/>
        <c:noMultiLvlLbl val="0"/>
      </c:catAx>
      <c:valAx>
        <c:axId val="77664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371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993-613F-47E8-A731-EAF202E8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416-88B5-4074-916F-C1BEFA6E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3DCA-4539-4DDE-8E7C-74BF09CA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DE7-88F0-4FE6-A518-D8358337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7CA-317C-4A6A-935C-3F9FF6DE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31D1-1445-4D15-BD0B-22D11253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CC19-DA42-4029-94BF-4AB1C06A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7F0-8834-4E71-9DB2-0CC51C14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DF9-4BE4-4F48-9392-F9BDAA83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BC3-E696-4B25-9FBA-33D2C0E2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831D-272D-4435-AF5D-9E98ADA1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527-82EC-4EA6-98AF-DC1ABE96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55C2C-36EE-4A7D-8818-E5FC7A0B33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