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16519"/>
        <c:axId val="10423101"/>
      </c:barChart>
      <c:catAx>
        <c:axId val="72016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23101"/>
        <c:crosses val="autoZero"/>
        <c:auto val="1"/>
        <c:lblAlgn val="ctr"/>
        <c:lblOffset val="100"/>
        <c:noMultiLvlLbl val="0"/>
      </c:catAx>
      <c:valAx>
        <c:axId val="10423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16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AEF-9FD7-46B8-95A0-444D3B9A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378-4093-426C-9777-0EC5C074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51A-A8DF-4744-84CF-82C39D65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438-E08A-49CC-BE8E-11CBF7FC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0AA-CE45-45CF-9B38-51D7500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621-B812-4CF6-B732-60CB59C0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AD3-F9A6-4F03-8FA2-29D0254F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225-6938-42B5-BF5E-EE917CA9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EF5-DD00-425A-835F-0D644BF5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C13-1373-4E15-B069-2C58547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A11-65A9-4123-88F6-961464D4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EF1-93B9-4BB1-BB05-6AF9C27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235F5-DD9D-4F03-A3C2-E4E9D9EBD0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