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41469"/>
        <c:axId val="44466347"/>
      </c:barChart>
      <c:catAx>
        <c:axId val="35341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66347"/>
        <c:crosses val="autoZero"/>
        <c:auto val="1"/>
        <c:lblAlgn val="ctr"/>
        <c:lblOffset val="100"/>
        <c:noMultiLvlLbl val="0"/>
      </c:catAx>
      <c:valAx>
        <c:axId val="44466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41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405-CF11-4641-B0F7-1C8E410E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195-05BF-4A85-9508-B3F825A1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C95-6D47-43CF-9FE4-A61F2C18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CAC-9B3F-4132-9296-70EDED7D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E70-D5B5-4C01-8EFD-D92045EA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E6A-4B3C-4401-BBA3-981F7EE9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F10-5C0B-4385-B70D-3C208E14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549-3B34-4093-840B-B59620ED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ACD-9105-4749-8C1F-22A0C1B1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A9B-4C96-4CFD-A086-34350F43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6A3-EEBC-44F8-BA04-C13C54F8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18D-0CB4-4AD4-AA44-1B74DB6E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6E5CD-4A3E-45A8-9C6C-04C95E0E2E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